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CAB-7FF5-49ED-8B41-758AA0E4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68A-0647-4871-AB7D-D3272D27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8BD-F470-4AC6-9AAA-D5242230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FDA-7CA9-4706-94A8-BDD38BD6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F6E-E67F-4734-96DE-D3A6CBF3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685-6BFA-449B-ADF7-01CAA687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303-4AC2-4339-BFF3-1114DD69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789-5393-45C6-9361-3F66F803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44D-CF28-40BD-BE51-6106D674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0B7-15EC-4900-A6E8-8E55A1B5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03F-7A7E-4EB4-9F8B-57F8A7A5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9FA-B45C-415A-B53F-4A0BE37F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7E1E-AF40-4AD8-BAF3-6E711091B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eb.mit.edu/invent/iow/gould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480060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487692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7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7400" y="1143000"/>
            <a:ext cx="5867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8100000"/>
                </a:gradFill>
                <a:latin typeface="Impact"/>
              </a:rPr>
              <a:t>LAS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657600" cy="2468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05720" y="228600"/>
            <a:ext cx="2133360" cy="142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G. Gould"/>
          <p:cNvPicPr/>
          <p:nvPr/>
        </p:nvPicPr>
        <p:blipFill>
          <a:blip r:embed="rId1"/>
          <a:stretch/>
        </p:blipFill>
        <p:spPr>
          <a:xfrm>
            <a:off x="1600200" y="457200"/>
            <a:ext cx="5791320" cy="189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4343400"/>
            <a:ext cx="5334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La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anuary 11,2011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eb.mit.edu/invent/iow/goul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9718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use the laser to point at stu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ld invented the la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refined in 195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tent was filed in 198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oint it at stu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Gor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born in New York City in 19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onvinced and designed a la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working toward a ph.D. in physics at Columbia Univer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uld himself would convince and design one of the most significant inventions in th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uld was doing research in microwave spectros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uld was inspired with a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uld abandoned his doctorate in order to get his invention into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29:14Z</dcterms:created>
  <dc:creator>install</dc:creator>
  <dc:description/>
  <dc:language>en-US</dc:language>
  <cp:lastModifiedBy>install</cp:lastModifiedBy>
  <dcterms:modified xsi:type="dcterms:W3CDTF">2011-01-14T17:09:34Z</dcterms:modified>
  <cp:revision>7</cp:revision>
  <dc:subject/>
  <dc:title>Slide 1</dc:title>
</cp:coreProperties>
</file>